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749-06C6-4951-A562-1FB51A44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03B-CE17-4FD5-A7C1-95456385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709-961F-4665-A446-8F74F1B7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9B9-7BCB-4CAB-BA0D-1CF089EF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0B3-9CF5-4386-93DB-90D1C089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D47-69EE-4EDF-BB52-BEF050F6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600-78E7-4036-9982-AAB82639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E6E-AAEB-4FC3-B042-3B633342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13C-FF6F-4C43-826C-E9851AB1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96E-9427-4639-BC0B-B5E31EA3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805-91FB-45FC-AFEF-4EBAA6F6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CA2-891C-4399-8BA9-240AA985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13EE-8378-4418-B905-CA05E3443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AP Macroeco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ichael Kaylael Melissa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pen vs. Closed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ECONOMY 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ly privat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te ownership of F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ly market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cent of GDP that flows through the government is relatively sm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most of what we consume, consume most of what we prod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8284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79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646"/>
                </a:solidFill>
                <a:latin typeface="Calibri"/>
              </a:rPr>
              <a:t>Op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is exported and imported, as a percent of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Relatively Clo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952880" y="4181400"/>
            <a:ext cx="3276720" cy="916920"/>
          </a:xfrm>
          <a:prstGeom prst="rect">
            <a:avLst/>
          </a:prstGeom>
          <a:solidFill>
            <a:srgbClr val="bfbfbf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: Japan,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sed: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Production Possibilities Fronti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33520" y="1676520"/>
            <a:ext cx="8076960" cy="825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A diagram that illustrates the possible combination of goods a company produces when all of their resources are fully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 flipH="1">
            <a:off x="1371600" y="2820960"/>
            <a:ext cx="1440" cy="2436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1371600" y="5257800"/>
            <a:ext cx="2362320" cy="1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3"/>
          <p:cNvSpPr/>
          <p:nvPr/>
        </p:nvSpPr>
        <p:spPr>
          <a:xfrm>
            <a:off x="1447920" y="2895480"/>
            <a:ext cx="213336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/>
          <p:cNvSpPr/>
          <p:nvPr/>
        </p:nvSpPr>
        <p:spPr>
          <a:xfrm>
            <a:off x="1676520" y="3124080"/>
            <a:ext cx="15228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2438280" y="3962520"/>
            <a:ext cx="15264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6"/>
          <p:cNvSpPr/>
          <p:nvPr/>
        </p:nvSpPr>
        <p:spPr>
          <a:xfrm>
            <a:off x="3200400" y="4724280"/>
            <a:ext cx="15228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18288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2514600" y="35924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3276720" y="4354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762120" y="54100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y costs are cons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lly utilizing all resources, being as efficient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llustrates tradeoff btwn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1"/>
          <p:cNvSpPr/>
          <p:nvPr/>
        </p:nvSpPr>
        <p:spPr>
          <a:xfrm flipH="1">
            <a:off x="5562720" y="2819520"/>
            <a:ext cx="1440" cy="2436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2"/>
          <p:cNvSpPr/>
          <p:nvPr/>
        </p:nvSpPr>
        <p:spPr>
          <a:xfrm>
            <a:off x="5562720" y="5256360"/>
            <a:ext cx="2361960" cy="28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23"/>
          <p:cNvSpPr/>
          <p:nvPr/>
        </p:nvSpPr>
        <p:spPr>
          <a:xfrm rot="20841000">
            <a:off x="4800600" y="2754360"/>
            <a:ext cx="3105000" cy="357012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6553080" y="2743200"/>
            <a:ext cx="15264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5"/>
          <p:cNvSpPr/>
          <p:nvPr/>
        </p:nvSpPr>
        <p:spPr>
          <a:xfrm>
            <a:off x="67057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6"/>
          <p:cNvSpPr/>
          <p:nvPr/>
        </p:nvSpPr>
        <p:spPr>
          <a:xfrm>
            <a:off x="7543800" y="350532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7620120" y="31352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8"/>
          <p:cNvSpPr/>
          <p:nvPr/>
        </p:nvSpPr>
        <p:spPr>
          <a:xfrm>
            <a:off x="7848720" y="457200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9"/>
          <p:cNvSpPr/>
          <p:nvPr/>
        </p:nvSpPr>
        <p:spPr>
          <a:xfrm>
            <a:off x="7924680" y="420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5029200" y="5410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y costs are not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varying opp. costs reflects principal of increasing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hifts in the Demand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demand = shift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all prices we buy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in demand = shift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all prices we buy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in demand caus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 preferences, consumer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4"/>
          <p:cNvSpPr/>
          <p:nvPr/>
        </p:nvSpPr>
        <p:spPr>
          <a:xfrm flipH="1">
            <a:off x="1294920" y="2362320"/>
            <a:ext cx="1800" cy="32763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"/>
          <p:cNvSpPr/>
          <p:nvPr/>
        </p:nvSpPr>
        <p:spPr>
          <a:xfrm>
            <a:off x="1295280" y="5637240"/>
            <a:ext cx="2895840" cy="144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1828800" y="2438280"/>
            <a:ext cx="220968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62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41911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60948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0"/>
          <p:cNvSpPr/>
          <p:nvPr/>
        </p:nvSpPr>
        <p:spPr>
          <a:xfrm>
            <a:off x="2208960" y="2286000"/>
            <a:ext cx="221004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1"/>
          <p:cNvSpPr/>
          <p:nvPr/>
        </p:nvSpPr>
        <p:spPr>
          <a:xfrm>
            <a:off x="1523160" y="2819520"/>
            <a:ext cx="221004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limentar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ubstitute Go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omplimen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s you typically buy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: peanut butter and jelly, pasta and sauce, tables and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price of one goes up, demand for complimentary products go down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ubstit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s that can be used in place of one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: butter and margarine, cow milk and soy milk, fresh and frozen 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price of butter goes up, QD goes down, so demand for margarine goes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upply and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a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# of sellers, technology, cost of inputs, prices of related products, future price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 Equilib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section of supply and demand curves, where QS=Q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7239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Surp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S &gt; QD because price is too 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fix: price must be lower, P  QS   Q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Shor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D &gt; QS because price is too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fix: P   QD    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7"/>
          <p:cNvCxnSpPr/>
          <p:nvPr/>
        </p:nvCxnSpPr>
        <p:spPr>
          <a:xfrm flipH="1">
            <a:off x="6779880" y="3428640"/>
            <a:ext cx="216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6" name="Straight Arrow Connector 8"/>
          <p:cNvCxnSpPr/>
          <p:nvPr/>
        </p:nvCxnSpPr>
        <p:spPr>
          <a:xfrm>
            <a:off x="7313760" y="5105160"/>
            <a:ext cx="216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7" name="Straight Arrow Connector 9"/>
          <p:cNvCxnSpPr/>
          <p:nvPr/>
        </p:nvCxnSpPr>
        <p:spPr>
          <a:xfrm flipV="1">
            <a:off x="7770960" y="3428280"/>
            <a:ext cx="216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8" name="Straight Arrow Connector 12"/>
          <p:cNvCxnSpPr/>
          <p:nvPr/>
        </p:nvCxnSpPr>
        <p:spPr>
          <a:xfrm flipV="1">
            <a:off x="6780600" y="5104800"/>
            <a:ext cx="252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9" name="Straight Arrow Connector 13"/>
          <p:cNvCxnSpPr/>
          <p:nvPr/>
        </p:nvCxnSpPr>
        <p:spPr>
          <a:xfrm>
            <a:off x="7237440" y="3428640"/>
            <a:ext cx="216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90" name="Straight Arrow Connector 14"/>
          <p:cNvCxnSpPr/>
          <p:nvPr/>
        </p:nvCxnSpPr>
        <p:spPr>
          <a:xfrm flipV="1">
            <a:off x="7845840" y="5104800"/>
            <a:ext cx="252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2:58Z</dcterms:created>
  <dc:creator>sth_user</dc:creator>
  <dc:description/>
  <dc:language>en-US</dc:language>
  <cp:lastModifiedBy>HP Authorized Customer</cp:lastModifiedBy>
  <dcterms:modified xsi:type="dcterms:W3CDTF">2009-01-27T22:00:58Z</dcterms:modified>
  <cp:revision>11</cp:revision>
  <dc:subject/>
  <dc:title>AP Macroeconomics</dc:title>
</cp:coreProperties>
</file>